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FE0C-1627-423B-8BAE-54F8CF4E7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6DFA-46A6-41C8-AC6C-B48471BF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75C5-C311-4DF0-B14C-EFDA6717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3EC8-93ED-4551-8D74-2A5266B86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D516-3FCE-4E46-BEC9-8FD7C45A3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6BAF-482F-47E2-9B05-3A628941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5FEA-53B2-44CB-84BD-E6B4480F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A643-655B-421D-9E31-B804F311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BE85-092A-4422-A621-8A4647A3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709A-B8AD-40BC-9B85-04F7E974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BFBD-1350-4351-B79D-7D1979B9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4ACC-9114-4E8A-99C3-7B3BDC3D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2372-B58A-4F43-A283-68D861D8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2991-F599-431E-A418-E4A4263A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48AF-11FD-4AE4-BD63-DD0B2D3B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1159-B171-48DE-A5EB-DCF9C572C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B8DF-138B-4649-821F-1EC4EBE30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BE782-991A-41E8-B460-2C6DFBD14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84AC4-55DE-4457-A162-B3F57089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272B4-0775-43CC-BA59-4B1520E9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2B372-22F6-4F2D-B94C-0AE2A3BE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85713-6A7B-46F0-83D7-7F9B0EDB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DA04-9BC2-45B6-9C0F-3D29D0A1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5BD44-021C-43A6-AD2F-C887683D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AE2EB-6E1F-48B4-99F7-76866994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BE68E-DDEB-4DAD-B56B-458A5F7F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4661F-757B-4A8D-8C33-59E8ABBC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E4CDA-FF3A-4652-A2EA-819B9845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6DF77-FC5E-44AD-A3B8-1024A6C34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34750-1327-4A4D-A1CE-5F3C31E67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1AC33-1CEF-4A02-AC56-AD71CE71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22E46-C6F6-4443-B1AC-1B3BAF00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0AFB3-681A-4047-8B62-8B5B6613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0E57-87F6-4BC1-8587-CF4FB0AE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908A7-FCF4-4907-8B34-9CBB9C3E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A3938-3F03-4797-AD9D-4468EABC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070A4-44BE-4795-9560-BD7697C5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DFAFC-D3DE-4950-8F60-D870B46E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7C181-0BBE-4744-AA94-6620EACF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BC1E6-8F99-4576-B7C3-F609E4AB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296B3-B88C-43F3-9EC0-3BFA3153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8D90A-7C2C-4411-B796-FE1F9B7F8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011AD-EAE3-4CA9-836E-999DF6BA9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3E1D-616F-4E43-8D45-02EDF804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D39B-52B9-4B8E-A710-68486E94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A966-8BF7-48A2-BE70-90D6000F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815C-3140-418E-B0A7-14DF8828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54B6-B18C-458C-9647-0C1F9022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51DE-7EE1-4ECD-9DF9-2B16BC00CD5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8C4C-C020-4B49-8DC8-4B33D77DC11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FE12-446C-49DE-A0CE-341DEB23A54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39AB-639C-4214-933B-77D331312A6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6400" y="1255680"/>
            <a:ext cx="8448840" cy="2438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еханическая обработ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ераци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мораживание – позволяет восстановить структуру мышечной ткани рыб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мачивание – в результате содержание соли снижается с 20 до 1…3%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делка – удаляют чешую, плавники, голову, внутрен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готовление полуфабрикат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ыбный цех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 крупных предприятиях механическую обработку рыбы производят в рыбном цех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орудование: ванные, производственные столы, холодильники, мясорубк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Рисунок 3" descr="fish.ceh.jpg"/>
          <p:cNvPicPr/>
          <p:nvPr/>
        </p:nvPicPr>
        <p:blipFill>
          <a:blip r:embed="rId1"/>
          <a:stretch/>
        </p:blipFill>
        <p:spPr>
          <a:xfrm>
            <a:off x="2857680" y="4214880"/>
            <a:ext cx="33573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азморажив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мораживают рыбу в холодной воде с добавлением поваренной соли или на воздухе в холодном помещении в бумажной упаковк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Рисунок 3" descr="9.jpg"/>
          <p:cNvPicPr/>
          <p:nvPr/>
        </p:nvPicPr>
        <p:blipFill>
          <a:blip r:embed="rId1"/>
          <a:stretch/>
        </p:blipFill>
        <p:spPr>
          <a:xfrm>
            <a:off x="2571840" y="3857760"/>
            <a:ext cx="40719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чистка от чешу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уществляют вручную ножом, скребком или механическим способ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Рисунок 3" descr="112.jpg"/>
          <p:cNvPicPr/>
          <p:nvPr/>
        </p:nvPicPr>
        <p:blipFill>
          <a:blip r:embed="rId1"/>
          <a:stretch/>
        </p:blipFill>
        <p:spPr>
          <a:xfrm>
            <a:off x="714240" y="3071880"/>
            <a:ext cx="3357720" cy="185724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4" descr="113.jpg"/>
          <p:cNvPicPr/>
          <p:nvPr/>
        </p:nvPicPr>
        <p:blipFill>
          <a:blip r:embed="rId2"/>
          <a:stretch/>
        </p:blipFill>
        <p:spPr>
          <a:xfrm>
            <a:off x="4214880" y="2857680"/>
            <a:ext cx="1785960" cy="307152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5" descr="111.jpg"/>
          <p:cNvPicPr/>
          <p:nvPr/>
        </p:nvPicPr>
        <p:blipFill>
          <a:blip r:embed="rId3"/>
          <a:stretch/>
        </p:blipFill>
        <p:spPr>
          <a:xfrm>
            <a:off x="6643800" y="2857680"/>
            <a:ext cx="20714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трош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трошение производят ручным способом или с помощью специального оборудова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Рисунок 4" descr="00.jpg"/>
          <p:cNvPicPr/>
          <p:nvPr/>
        </p:nvPicPr>
        <p:blipFill>
          <a:blip r:embed="rId1"/>
          <a:stretch/>
        </p:blipFill>
        <p:spPr>
          <a:xfrm>
            <a:off x="928800" y="3214800"/>
            <a:ext cx="2214360" cy="285732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5" descr="343.jpg"/>
          <p:cNvPicPr/>
          <p:nvPr/>
        </p:nvPicPr>
        <p:blipFill>
          <a:blip r:embed="rId2"/>
          <a:stretch/>
        </p:blipFill>
        <p:spPr>
          <a:xfrm>
            <a:off x="6215040" y="3214800"/>
            <a:ext cx="2357640" cy="278604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6" descr="gg.jpg"/>
          <p:cNvPicPr/>
          <p:nvPr/>
        </p:nvPicPr>
        <p:blipFill>
          <a:blip r:embed="rId3"/>
          <a:stretch/>
        </p:blipFill>
        <p:spPr>
          <a:xfrm>
            <a:off x="3262320" y="3214800"/>
            <a:ext cx="28814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Разделка на порционные куск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00040" y="185724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ыбу разделывают н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ругляши – куски круглой формы с кожей и костя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иле – пластова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Рисунок 3" descr="334.jpg"/>
          <p:cNvPicPr/>
          <p:nvPr/>
        </p:nvPicPr>
        <p:blipFill>
          <a:blip r:embed="rId1"/>
          <a:stretch/>
        </p:blipFill>
        <p:spPr>
          <a:xfrm>
            <a:off x="714240" y="3857760"/>
            <a:ext cx="3071880" cy="242892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4" descr="ff.jpg"/>
          <p:cNvPicPr/>
          <p:nvPr/>
        </p:nvPicPr>
        <p:blipFill>
          <a:blip r:embed="rId2"/>
          <a:stretch/>
        </p:blipFill>
        <p:spPr>
          <a:xfrm>
            <a:off x="4929120" y="3857760"/>
            <a:ext cx="3643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олуфабрикаты из рыбной массы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тлеты и биточк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фтел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рикадельк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льно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уле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нельная масс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Рисунок 3" descr="ww.jpg"/>
          <p:cNvPicPr/>
          <p:nvPr/>
        </p:nvPicPr>
        <p:blipFill>
          <a:blip r:embed="rId1"/>
          <a:stretch/>
        </p:blipFill>
        <p:spPr>
          <a:xfrm>
            <a:off x="6572160" y="1785960"/>
            <a:ext cx="2071800" cy="178596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4" descr="zz.jpg"/>
          <p:cNvPicPr/>
          <p:nvPr/>
        </p:nvPicPr>
        <p:blipFill>
          <a:blip r:embed="rId2"/>
          <a:stretch/>
        </p:blipFill>
        <p:spPr>
          <a:xfrm>
            <a:off x="6572160" y="3643200"/>
            <a:ext cx="2071800" cy="16430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5" descr="ffff.jpg"/>
          <p:cNvPicPr/>
          <p:nvPr/>
        </p:nvPicPr>
        <p:blipFill>
          <a:blip r:embed="rId3"/>
          <a:stretch/>
        </p:blipFill>
        <p:spPr>
          <a:xfrm>
            <a:off x="4643280" y="178596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6" descr="hfg.jpg"/>
          <p:cNvPicPr/>
          <p:nvPr/>
        </p:nvPicPr>
        <p:blipFill>
          <a:blip r:embed="rId4"/>
          <a:stretch/>
        </p:blipFill>
        <p:spPr>
          <a:xfrm>
            <a:off x="4643280" y="3643200"/>
            <a:ext cx="17859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20:39:32Z</dcterms:created>
  <dc:creator>user</dc:creator>
  <dc:description/>
  <dc:language>en-US</dc:language>
  <cp:lastModifiedBy>Студент</cp:lastModifiedBy>
  <dcterms:modified xsi:type="dcterms:W3CDTF">2011-11-14T06:30:58Z</dcterms:modified>
  <cp:revision>7</cp:revision>
  <dc:subject/>
  <dc:title>Кулинарная обработка рыбы</dc:title>
</cp:coreProperties>
</file>